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97C8-10A3-4322-AB35-CDF9BCD30E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omic Sans MS"/>
              </a:rPr>
              <a:t>Rh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YN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LUO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HAN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LGRYNN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HI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HIF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5880-EBF0-4831-BB01-21DCEEAE4B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RM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YNEGI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BY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F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89E2-17AA-495F-8B34-E8663CAD65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FALI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HEBY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BY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W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F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G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F729-C88B-43D9-8641-75B17CD069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NEW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YMLEID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RM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77C6-66D9-460D-A6AA-54703195DD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RWYNEBEDD A MES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E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Y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TRY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YNE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6B23-4214-40B4-B738-F6E278EC39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RWYNEBEDD A MES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RIME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R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R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LIME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LIMETR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2926-DC5B-43B4-87AD-22F1018A3B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RWYNEBEDD A MES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FA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LIME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ONG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DF99-5A22-4C03-AC71-E5E327DD4C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RWYNEBEDD A MES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G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ONG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TRY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4CAD-3DEF-40D0-B87E-11C9D3D1FD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Rhifau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BL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DR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DRIF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ILR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ILRIF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RM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HE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H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HIF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AEB3-2006-47FE-B98F-0503FCCA6E6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Rhifau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SEF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ILR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DR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A793-8801-4984-89BA-4FFDB68E24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L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ME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D0A1-2399-48A2-89B4-5148B1C2C9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Degolion, Canrannau a Ffracsiyn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FRACSI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NR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WAD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WBL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6867-856A-41C9-A1B9-9500E6D925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CHE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NOLR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REDI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AR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DF18-64F9-4E4C-8A4A-01F2BA2820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WAHAN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 –D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OLW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L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B843-FD73-4BF8-AC0F-08DA388166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GRADDFEYDD AC AMSERLEN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DDF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RI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UN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W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72CB-A129-439B-9B0E-16B2EC0E05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GRADDFEYDD AC AMSERLEN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SER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M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LSI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ILI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W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B38D-E70D-41B4-BC54-13DBD4482A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TEBYGOLRWY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BYGOLRWY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BYG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HEBYG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HEBY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H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050B-B222-4D00-8F38-ACC0DC4486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TEBYGOLRWY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C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IC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GWYDDI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3287-4BE9-449C-B46B-9C535CF33A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Degolion, Canrannau a Ffracsiyn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O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HIFIAD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HI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4DDF-C415-4E64-822B-1B793B0666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Degolion, Canrannau a Ffracsiyn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W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F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E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EF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4DED-BC86-42EE-9475-F181C48F9B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Siapau 2D a cymesure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ONG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G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TRY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34EE-9182-4C2D-AC85-196C2CCC05D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Siapau 2D a cymesure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RALEL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CTA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G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0F98-875C-43C1-B13F-7D6F91B704A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Siapau 2D a cymesure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PESIW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G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OES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W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ONG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RA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BB04-A0C3-4748-BAD5-EAB679AD80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Siapau 2D a cymesure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IMETR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LIN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LINELL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LIMETR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9E0E-85EE-4E81-825E-5462EA567A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ONGL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L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F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TBLY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MY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G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GLYD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6EFD-7DAF-4352-9892-8D2CEBFEE0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EF7-0076-4ABF-B0CB-4D806833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D40-3E37-4735-9849-65C1CBAC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BDF-81A1-4EF2-889E-D177F547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7BC-473B-4208-A8B4-F6B7B39D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AF1-DDB1-4D3E-B146-F9172C7B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910-FFEE-4CCB-93C5-56735F3A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9B9A-D35F-433F-A96E-8185C40E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120D-A6B2-4EED-98BB-48CF9AFF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2F8-2094-499C-AB3A-25110994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309-A0D9-44B4-BAD1-890C3F6C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331C-9435-4BBE-9E0E-1EFF0EA4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CB2-C814-4CFA-B9FC-5F340ADF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4A2B-EAA2-4E60-AA6B-CDE74D3A6D3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00040" y="428760"/>
          <a:ext cx="8215200" cy="592920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14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6:53:30Z</dcterms:created>
  <dc:creator>Llinos</dc:creator>
  <dc:description/>
  <dc:language>en-US</dc:language>
  <cp:lastModifiedBy>Llinos</cp:lastModifiedBy>
  <dcterms:modified xsi:type="dcterms:W3CDTF">2009-10-04T18:48:08Z</dcterms:modified>
  <cp:revision>3</cp:revision>
  <dc:subject/>
  <dc:title>Slide 1</dc:title>
</cp:coreProperties>
</file>